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878-A95A-4EC5-BC2C-0454B79E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000-B35F-487B-AF51-E73BB6BE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FC6-C017-4225-A20C-2575C5C6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951-DBEB-4F26-9E70-7AD423F8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178-4E61-42AE-B7B5-ADC15948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E0B-683A-499C-A6C5-2DB70B90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080-F8BD-4CD9-A630-2F7A513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FDC-D1F5-4E03-ADA2-AB4D605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0B7-313B-4DB8-9172-BAA683D6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439-2BE8-4AD0-AA34-89EDF22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C1B-C6EF-4E83-9D1A-91E641E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544-40C0-448F-B3FF-5187488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324-9EDB-4A21-B6FA-D7A9C6282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history.navy.mil/photos/images/g310000/g312018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life in World War 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y Mike Sie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served in the Navy during WW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mike-sievers-world-war-2jpg-d5caceca2f3e7080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17960" cy="315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4815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arl Harbor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cember 7, 194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878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dern Pearl Harb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807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ttle of Midway!</a:t>
            </a:r>
            <a:br>
              <a:rPr sz="4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ost important naval battle of the Pacific campaign in WW2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rem_batt_midway_logo_a1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8440" cy="3808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514600"/>
            <a:ext cx="31244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50:02Z</dcterms:created>
  <dc:creator>Information Technology</dc:creator>
  <dc:description/>
  <dc:language>en-US</dc:language>
  <cp:lastModifiedBy>Information Technology</cp:lastModifiedBy>
  <dcterms:modified xsi:type="dcterms:W3CDTF">2010-02-11T13:09:16Z</dcterms:modified>
  <cp:revision>3</cp:revision>
  <dc:subject/>
  <dc:title>My life in World War II</dc:title>
</cp:coreProperties>
</file>